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B8D-F6CC-4D92-86EF-E02FFDF0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6F6-CC0C-4660-B3BC-3164A6E5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7A3-A832-4D96-9814-4F66AA33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222-BE17-4538-9CDC-D56B02E2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099-4991-4977-8DFB-A2DF0ED2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922-5A37-414D-ADC3-2D2321B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CDD-8FEA-41C3-9C7D-F8E87E41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F3D-33B4-4C68-9B6D-35AEB19F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442-EE71-4DE0-93D7-6381A03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420-BFBF-4525-AF03-F2E4AD7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532-8EA0-4C22-AAA3-873FFCD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614-60AB-4840-A01F-AC47544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B3E-F0C4-418E-B4BB-0825740D6D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324000" y="2637000"/>
          <a:ext cx="266364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26636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0" y="4653000"/>
          <a:ext cx="3456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3708360" y="2060640"/>
          <a:ext cx="543564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060640"/>
                    <a:ext cx="54356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0"/>
          <p:cNvGraphicFramePr/>
          <p:nvPr/>
        </p:nvGraphicFramePr>
        <p:xfrm>
          <a:off x="3887640" y="4005360"/>
          <a:ext cx="5256360" cy="14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7640" y="4005360"/>
                    <a:ext cx="52563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OMENCLATURA DE COMPOSTOS DE CADEIA M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250920" y="2532240"/>
          <a:ext cx="453708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32240"/>
                    <a:ext cx="453708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6"/>
          <p:cNvGraphicFramePr/>
          <p:nvPr/>
        </p:nvGraphicFramePr>
        <p:xfrm>
          <a:off x="5292720" y="2349360"/>
          <a:ext cx="3529080" cy="352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349360"/>
                    <a:ext cx="352908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OMENCLATURA DE COMPOSTOS DE CADEIA M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79280" y="1341360"/>
          <a:ext cx="89647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964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1763640" y="765000"/>
          <a:ext cx="53294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765000"/>
                    <a:ext cx="5329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7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1835280" y="1844640"/>
          <a:ext cx="54720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844640"/>
                    <a:ext cx="5472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1763640" y="3213000"/>
          <a:ext cx="547236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213000"/>
                    <a:ext cx="547236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0"/>
          <p:cNvGraphicFramePr/>
          <p:nvPr/>
        </p:nvGraphicFramePr>
        <p:xfrm>
          <a:off x="2700360" y="4724280"/>
          <a:ext cx="3743280" cy="18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4724280"/>
                    <a:ext cx="3743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DICAIS OU RAMIF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71720"/>
            <a:ext cx="9144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terminar a cadei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68360" y="2637000"/>
          <a:ext cx="820728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7000"/>
                    <a:ext cx="82072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258920" y="1916280"/>
          <a:ext cx="6697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6697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erar a cadei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95280" y="2133720"/>
          <a:ext cx="849780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49780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79280" y="4653000"/>
          <a:ext cx="896472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53000"/>
                    <a:ext cx="8964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º pass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o nome do composto orgânico ram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0" y="2871720"/>
          <a:ext cx="9144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1720"/>
                    <a:ext cx="9144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971640" y="4989600"/>
          <a:ext cx="7777080" cy="18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989600"/>
                    <a:ext cx="777708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0" y="2133720"/>
          <a:ext cx="914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OMENCLATURA DE COMPOSTOS ALIFÁTICOS RAMIFIC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2421000"/>
          <a:ext cx="88930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8893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9:08:08Z</dcterms:created>
  <dc:creator>Cliente</dc:creator>
  <dc:description/>
  <dc:language>en-US</dc:language>
  <cp:lastModifiedBy>Moises</cp:lastModifiedBy>
  <dcterms:modified xsi:type="dcterms:W3CDTF">2011-04-25T03:25:34Z</dcterms:modified>
  <cp:revision>4</cp:revision>
  <dc:subject/>
  <dc:title>HIDROCARBONETOS DE CADEIA RAMIFICADA</dc:title>
</cp:coreProperties>
</file>